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sound001.wav" ContentType="audio/x-wav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197-E164-4612-A14F-5772FB43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1F73-0885-46BF-953F-57CC3EE1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E80B-78BC-4AF1-BC72-C40FC8C9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1106-6D2A-401C-961E-1682DA80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A559-6B6C-4731-B3C3-40A76F26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04E8-68DF-454C-A501-24E02473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C244-1CAA-430F-951C-FE5921C6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8E4E-1596-4F3A-A11B-BF668436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CEB4-EAE2-497D-B00D-F9931057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A65-EEC0-4A55-B2AF-928D3820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A3C-3BC8-41DC-AEF0-E7F1CED6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BDAF-66D2-454B-AFFC-AB278426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9B0F-BCA2-4F65-BA36-D208BAF9D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sound001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jirik.tk.sweb.cz/" TargetMode="External"/><Relationship Id="rId3" Type="http://schemas.openxmlformats.org/officeDocument/2006/relationships/hyperlink" Target="http://jirik.tk.sweb.cz/" TargetMode="External"/><Relationship Id="rId4" Type="http://schemas.openxmlformats.org/officeDocument/2006/relationships/hyperlink" Target="http://jirik.tk.sweb.cz/" TargetMode="External"/><Relationship Id="rId5" Type="http://schemas.openxmlformats.org/officeDocument/2006/relationships/hyperlink" Target="http://jirik.tk.sweb.cz/" TargetMode="External"/><Relationship Id="rId6" Type="http://schemas.openxmlformats.org/officeDocument/2006/relationships/hyperlink" Target="http://jirik.tk.sweb.cz/" TargetMode="External"/><Relationship Id="rId7" Type="http://schemas.openxmlformats.org/officeDocument/2006/relationships/hyperlink" Target="http://jirik.tk.sweb.cz/" TargetMode="External"/><Relationship Id="rId8" Type="http://schemas.openxmlformats.org/officeDocument/2006/relationships/hyperlink" Target="http://jirik.tk.sweb.cz/" TargetMode="External"/><Relationship Id="rId9" Type="http://schemas.openxmlformats.org/officeDocument/2006/relationships/hyperlink" Target="http://jirik.tk.sweb.cz/" TargetMode="External"/><Relationship Id="rId10" Type="http://schemas.openxmlformats.org/officeDocument/2006/relationships/hyperlink" Target="http://jirik.tk.sweb.cz/" TargetMode="External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an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835280" y="1700280"/>
            <a:ext cx="5329080" cy="9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Bohové v naší duši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40000" y="4365720"/>
            <a:ext cx="44100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poznej bohy a poznáš seb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46" name=""/>
          <p:cNvSpPr/>
          <p:nvPr/>
        </p:nvSpPr>
        <p:spPr>
          <a:xfrm>
            <a:off x="3686760" y="6257880"/>
            <a:ext cx="217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ktualizováno v lednu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rtemi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bohyně lesů a lo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00360" y="1600200"/>
            <a:ext cx="568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jovná, soupeřivá a často i unáhlená panenská lovkyně a sportovkyně, ochránkyně slabších libující si v pobytu v přírodě. Oblíbená dcera. Sex je pro ni lov. Jinak po něm ani netouž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í partneř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pollón, Herm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21906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théna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bohyně rozumu i moudr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10920" y="1700280"/>
            <a:ext cx="6193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nenská, málo emocionální, zručná, praktická a logicky i strategicky myslící oblíbená tatínkova dcera přizpůsobená životu v mužském světě. Sex zvládá stejně dobře jako všechny ostatní nutné čin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í partneř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us, Apollón, vyzrálý Poseidón, Héfaistos, Herm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1905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pollón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– bůh věd a um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11280" y="1700280"/>
            <a:ext cx="6121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líbený syn. Málo emocionální, jemný, citlivý, slušný a spolehlivý na rozum spoléhající intelektuál s jasnou vizí budoucnosti. Ženy před ním zpravidla utíkají a pokud se mu náhodou podaří nějakou zlákat, je jemným a opatrným milenc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á partner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rtemis, Persefóné, Athé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1905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Árés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 – bůh tance, boje a odva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842920" y="160020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oblíbený syn. Odvážný, soutěživý, ale agresivní bojovník nebo sportovec. Miluje nebezpečí a dobrodružství. Je to skvělý byť trochu drsnější milenec, ale velmi špatný manžel. Vyzraje-li, uklidní se i zněž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á partner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frodí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23241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Héfaistos 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– bůh řemesel a techn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410920" y="1628640"/>
            <a:ext cx="604836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oblíbený syn. Trpělivý, vynalézavý a zručný řemeslník, modelář či programátor. Nespolečenský, nerudný až samotářský. Jeho zpravidla jedinou milenkou je jeho práce. Svést jej a sexuálně probudit vyžaduje takt i velkou trpělivost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é partner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métér, Athéna, Persefóné, Afrodí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1905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Hermés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 – bůh komunikace, průvodce du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10920" y="1600200"/>
            <a:ext cx="61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způsobivý, méně spolehlivý, veselý a nápaditý dobrodruh a šprýmař, průvodce duší po materiálním i duchovním světě. Oblíbený syn, dobrý milenec, ale ne věrný manžel. Ženy, o které má zájem, svádí více slovy nežli č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é partner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estia, Persefóné, Artemis, Afrodíté, Athén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1905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onýso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bůh radosti a svo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10920" y="1700280"/>
            <a:ext cx="62643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selý, bezstarostný, nadšený a tvořivý (někdy i depresivní) mystik a tulák přírodou i životem milující víno, ženy i zpěv. Něžný, jemný a příjemný milenec. Sexualita hraje v jeho životě velmi významnou ro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é partner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frodíté, Démétér, Persefón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1905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Afrodíté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 – bohyně krásy, touhy a erot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10920" y="1700280"/>
            <a:ext cx="61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hkomyslná, rozmarná, tvořivá, milující, inspirující, často nezodpovědná a rozruch působící bohyně prožívající svůj život naplno. Erotika a sex jsou velmi důležitou oblastí jejího života. Umí se přizpůsobit partnerovi a být něžnou i drsnou. Skvělá milenka, nevěrná manžel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í partneř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Árés, Héfaistos, Hermés, Poseidón, Dioný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1905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K čemu je toto vše dobré vědě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ytologie není jen sbírkou a zábavných nebo nudných příběhů, ale především zrcadlem, ve kterém můžeme vidět bohy v nás. A jedině tím, že je poznáme, že si uvědomíme tyto nevědomé síly, stanou se vědomými. Pak se můžeme osvobodit od jejich nadvlády a začít žít nový život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vázání přímého styku s těmito archetypy kolektivního nevědomí s sebou může přinést příliv nové životní energie, nových podnětů, nápadů i obnovu zájmu o okolní svě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A jak na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2997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jednodušší metodou je vytvoření archetypální mapy duše, která nám zobrazí božstva působící v naší psychice. Zeptáme se jich, jak se jim líbí místo, které zde mají. A pokud jsou se svým místem nespokojeni, pokusíme se s nimi domluvit a vyhovět jejich požadavkům tak, aby to bylo k dobru jejich i našem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2565360"/>
            <a:ext cx="8893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ž tři tisíce let uplynulo od doby, kdy se staří Řekové pokusili popsat síly, které rozehrávají hru v našem nitru. Vytvořili osm olympských bohů a sedm bohyní. Každému z nich dali podobu i jméno a popsali jeho příběh.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 povahy řeckých bohů a bohyň se můžeme dívat jako na základní typy lidských povah. Každé božstvo má jasný charakter, motivace, zvyky, cíle a dokonce i svéráznosti. Rozpoznat bohy v sobě znamená lépe poznat a pochopit sebe sama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této prezentaci se s nimi ve stručnosti seznámí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Kde si o tom lze přečí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669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cc"/>
                </a:solidFill>
                <a:latin typeface="Arial"/>
              </a:rPr>
              <a:t>Agapi Stassinopoul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3399"/>
                </a:solidFill>
                <a:latin typeface="Arial"/>
              </a:rPr>
              <a:t>Zamilovaní bohové a bohyně</a:t>
            </a:r>
            <a:r>
              <a:rPr b="1" lang="cs-CZ" sz="2800" spc="-1" strike="noStrike">
                <a:solidFill>
                  <a:srgbClr val="ff33cc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ff33cc"/>
                </a:solidFill>
                <a:latin typeface="Arial"/>
              </a:rPr>
              <a:t> Pragma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cc"/>
                </a:solidFill>
                <a:latin typeface="Arial"/>
              </a:rPr>
              <a:t>Na interne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irik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k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web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z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468360" y="1628640"/>
            <a:ext cx="1209600" cy="17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eu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vládce bohů, vůdce a organizá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27280" y="1628280"/>
            <a:ext cx="5400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lňující, cílevědomý, pragmatický šéf a vládce říše rozumu. Neustále posiluje své postavení a s plným nasazením jde za svými cíli. Moc získává nejen čestnými prostřed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ývá ženy. Není však dobrým milenc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odné partnerk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éra, Démétér, Athé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21906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éra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- bohyně manžel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11280" y="1628280"/>
            <a:ext cx="5832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rná a odevzdaná manželka úspěšného muže, vznešená, praktická, pragmatická, ale žárlivá. Pokud jí manžel zalétává, je vzteklá a pracuje na odvetě. Sex je pro ni zpravidla manželskou povinnos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ý partn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záletný Zeus, vyzrálý Poseid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190512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Poseidón 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– vládce moří, rebel i vůd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10920" y="160020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poruplný vládce říše emocí, který má tak jako moře dvojí tvář – klidnou a rozbouřenou. Věčně nespokojený, intenzivně a dramaticky prožívající svůj život. Je dobrý milenec ale nevěrný manžel, využívá příležitosti k sexuálním dobrodružstvím s žen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é partner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émétér, Afrodíté, Athé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1905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Hestia 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– bohyně rodinného kr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10920" y="1628280"/>
            <a:ext cx="5689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idná patronka rodinného krbu, panenská teta věnující se zkrášlování domova nebo duchovním záležitostem, kterou však stresuje shon i tlak běžného života. Dokáže žít bez sexu i bez partnera. S citlivým mužem se sexuálně probouz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ý partn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ermés, vyzrálý Héfai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1905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émétér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– bohyně mateřství a zeměděl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10920" y="1700280"/>
            <a:ext cx="6193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askavá, pečující a vyživující mateřská bohyně. Smyslem jejího života jsou děti. Trpí jejich odletem z rodinného hnízda. Mnohdy je to nepříjemná a kritická tchýně. Sex je pro ni zpravidla prostředkem k plození dětí a manželskou povinnos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í partneř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us, Poseidón, Héfaistos, Dionýs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190512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Hádés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 – vládce podsvětní říše mrtvý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11280" y="1600200"/>
            <a:ext cx="61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ádce podsvětí, tajemný, temný, nekomunikativní a osamělý vládce říše instinktů. Uvnitř drsný, neúprosný a závistivý, navenek velkorysý a chápav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není zamilovaný, o sexu více mluví, než jej praktiku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á partner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rsefó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1905120" cy="38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Persefóné</a:t>
            </a: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 – vládkyně podsvětní říš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400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minčina poslušná dcera, milá, laskavá, vnímavá, ale i poddajná a nerozhodná. Po svém únosu do manželství bývá často depresivní. Má nedůvěru k mužům, překoná-li ji a má hodného muže, probouzí se i sexuál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í partneř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us, Hádés, Dionýsos, Hermés, Apollón, Héfaistos, vyzrálý Á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1905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5:20:38Z</dcterms:created>
  <dc:creator>Administrator</dc:creator>
  <dc:description/>
  <dc:language>en-US</dc:language>
  <cp:lastModifiedBy>Paja</cp:lastModifiedBy>
  <dcterms:modified xsi:type="dcterms:W3CDTF">2011-03-01T08:41:36Z</dcterms:modified>
  <cp:revision>49</cp:revision>
  <dc:subject/>
  <dc:title>Bohové v naší duši</dc:title>
</cp:coreProperties>
</file>