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034-7B11-4B06-B1E2-99D88CBD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122-1BA3-485B-8169-F898DD0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B23-32D0-45FF-8CE2-954E0F1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551-FB04-4130-A597-F6CD815B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71C-54BB-4898-B84F-2BCBB7A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9BC-36C6-43A1-93A1-BEF2EF61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BF5-FAFC-4C15-A270-B3AF0757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89F-FDDD-4367-A6DA-35E72D85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B93-14D4-43AF-8FB6-F13511EB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CE7-07C3-4D48-8ED0-CBF2C4ED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1F1-7659-4617-9327-AC0F8F6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A5E-01F0-44C7-8933-52D7721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321B-CD79-4DBD-B65B-A7A106F3F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irik.tk.sweb.cz/" TargetMode="External"/><Relationship Id="rId3" Type="http://schemas.openxmlformats.org/officeDocument/2006/relationships/hyperlink" Target="http://jirik.tk.sweb.cz/" TargetMode="External"/><Relationship Id="rId4" Type="http://schemas.openxmlformats.org/officeDocument/2006/relationships/hyperlink" Target="http://jirik.tk.sweb.cz/" TargetMode="External"/><Relationship Id="rId5" Type="http://schemas.openxmlformats.org/officeDocument/2006/relationships/hyperlink" Target="http://jirik.tk.sweb.cz/" TargetMode="External"/><Relationship Id="rId6" Type="http://schemas.openxmlformats.org/officeDocument/2006/relationships/hyperlink" Target="http://jirik.tk.sweb.cz/" TargetMode="External"/><Relationship Id="rId7" Type="http://schemas.openxmlformats.org/officeDocument/2006/relationships/hyperlink" Target="http://jirik.tk.sweb.cz/" TargetMode="External"/><Relationship Id="rId8" Type="http://schemas.openxmlformats.org/officeDocument/2006/relationships/hyperlink" Target="http://jirik.tk.sweb.cz/" TargetMode="External"/><Relationship Id="rId9" Type="http://schemas.openxmlformats.org/officeDocument/2006/relationships/hyperlink" Target="http://jirik.tk.sweb.cz/" TargetMode="External"/><Relationship Id="rId10" Type="http://schemas.openxmlformats.org/officeDocument/2006/relationships/hyperlink" Target="http://jirik.tk.sweb.cz/" TargetMode="External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an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700280"/>
            <a:ext cx="532908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Bohové v naší duši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4365720"/>
            <a:ext cx="4410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poznej bohy a poznáš se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686760" y="62578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ktualizováno v lednu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rtem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lesů a lo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360" y="160020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jovná, soupeřivá a často i unáhlená panenská lovkyně a sportovkyně, ochránkyně slabších libující si v pobytu v přírodě. Oblíbená dcera. Sex je pro ni lov. Jinak po něm ani netou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llón, Her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190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thén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rozumu i moudr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nenská, málo emocionální, zručná, praktická a logicky i strategicky myslící oblíbená tatínkova dcera přizpůsobená životu v mužském světě. Sex zvládá stejně dobře jako všechny ostatní nutné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Apollón, vyzrálý Poseidón, Héfaistos, Herm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olló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bůh věd a u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121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líbený syn. Málo emocionální, jemný, citlivý, slušný a spolehlivý na rozum spoléhající intelektuál s jasnou vizí budoucnosti. Ženy před ním zpravidla utíkají a pokud se mu náhodou podaří nějakou zlákat, je jemným a opatrným mil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temis, Persefóné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Ár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ůh tance, boje a odv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4292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oblíbený syn. Odvážný, soutěživý, ale agresivní bojovník nebo sportovec. Miluje nebezpečí a dobrodružství. Je to skvělý byť trochu drsnější milenec, ale velmi špatný manžel. Vyzraje-li, uklidní se i zněž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rodí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3241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éfaistos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bůh řemesel a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6048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oblíbený syn. Trpělivý, vynalézavý a zručný řemeslník, modelář či programátor. Nespolečenský, nerudný až samotářský. Jeho zpravidla jedinou milenkou je jeho práce. Svést jej a sexuálně probudit vyžaduje takt i velkou trpěl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étér, Athéna, Persefóné, Afrodí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erm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ůh komunikace, průvodce d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1092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ivý, méně spolehlivý, veselý a nápaditý dobrodruh a šprýmař, průvodce duší po materiálním i duchovním světě. Oblíbený syn, dobrý milenec, ale ne věrný manžel. Ženy, o které má zájem, svádí více slovy nežli č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tia, Persefóné, Artemis, Afrodíté, Athé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onýso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ůh radosti a sv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264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selý, bezstarostný, nadšený a tvořivý (někdy i depresivní) mystik a tulák přírodou i životem milující víno, ženy i zpěv. Něžný, jemný a příjemný milenec. Sexualita hraje v jeho životě velmi významnou r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rodíté, Démétér, Persefó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Afrodíté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ohyně krásy, touhy a ero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hkomyslná, rozmarná, tvořivá, milující, inspirující, často nezodpovědná a rozruch působící bohyně prožívající svůj život naplno. Erotika a sex jsou velmi důležitou oblastí jejího života. Umí se přizpůsobit partnerovi a být něžnou i drsnou. Skvělá milenka, nevěrná manžel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rés, Héfaistos, Hermés, Poseidón, Dioný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K čemu je toto vše dobré vědě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tologie není jen sbírkou a zábavných nebo nudných příběhů, ale především zrcadlem, ve kterém můžeme vidět bohy v nás. A jedině tím, že je poznáme, že si uvědomíme tyto nevědomé síly, stanou se vědomými. Pak se můžeme osvobodit od jejich nadvlády a začít žít nový živo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ázání přímého styku s těmito archetypy kolektivního nevědomí s sebou může přinést příliv nové životní energie, nových podnětů, nápadů i obnovu zájmu o okolní svě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A jak na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2997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jednodušší metodou je vytvoření archetypální mapy duše, která nám zobrazí božstva působící v naší psychice. Zeptáme se jich, jak se jim líbí místo, které zde mají. A pokud jsou se svým místem nespokojeni, pokusíme se s nimi domluvit a vyhovět jejich požadavkům tak, aby to bylo k dobru jejich i našem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565360"/>
            <a:ext cx="88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ž tři tisíce let uplynulo od doby, kdy se staří Řekové pokusili popsat síly, které rozehrávají hru v našem nitru. Vytvořili osm olympských bohů a sedm bohyní. Každému z nich dali podobu i jméno a popsali jeho příběh.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 povahy řeckých bohů a bohyň se můžeme dívat jako na základní typy lidských povah. Každé božstvo má jasný charakter, motivace, zvyky, cíle a dokonce i svéráznosti. Rozpoznat bohy v sobě znamená lépe poznat a pochopit sebe sa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této prezentaci se s nimi ve stručnosti seznámí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de si o tom lze přečí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6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Agapi Stassinopou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99"/>
                </a:solidFill>
                <a:latin typeface="Arial"/>
              </a:rPr>
              <a:t>Zamilovaní bohové a bohyně</a:t>
            </a:r>
            <a:r>
              <a:rPr b="1" lang="cs-CZ" sz="2800" spc="-1" strike="noStrike">
                <a:solidFill>
                  <a:srgbClr val="ff33cc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 Pragm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Na intern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rik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k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web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68360" y="1628640"/>
            <a:ext cx="1209600" cy="17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eu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vládce bohů, vůdce a organiz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27280" y="1628280"/>
            <a:ext cx="5400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lňující, cílevědomý, pragmatický šéf a vládce říše rozumu. Neustále posiluje své postavení a s plným nasazením jde za svými cíli. Moc získává nejen čestnými prostřed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ývá ženy. Není však dobrým mil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odné partnerk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éra, Démétér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190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r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- bohyně manže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5832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rná a odevzdaná manželka úspěšného muže, vznešená, praktická, pragmatická, ale žárlivá. Pokud jí manžel zalétává, je vzteklá a pracuje na odvetě. Sex je pro ni zpravidla manželskou pov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ý part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áletný Zeus, vyzrálý Pose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Poseidón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vládce moří, rebel i 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1092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poruplný vládce říše emocí, který má tak jako moře dvojí tvář – klidnou a rozbouřenou. Věčně nespokojený, intenzivně a dramaticky prožívající svůj život. Je dobrý milenec ale nevěrný manžel, využívá příležitosti k sexuálním dobrodružstvím s že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métér, Afrodíté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estia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bohyně rodinného kr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0920" y="1628280"/>
            <a:ext cx="5689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dná patronka rodinného krbu, panenská teta věnující se zkrášlování domova nebo duchovním záležitostem, kterou však stresuje shon i tlak běžného života. Dokáže žít bez sexu i bez partnera. S citlivým mužem se sexuálně probouz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ý part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rmés, vyzrálý Héfa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05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émété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mateřství a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skavá, pečující a vyživující mateřská bohyně. Smyslem jejího života jsou děti. Trpí jejich odletem z rodinného hnízda. Mnohdy je to nepříjemná a kritická tchýně. Sex je pro ni zpravidla prostředkem k plození dětí a manželskou pov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Poseidón, Héfaistos, Dionýs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ád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vládce podsvětní říše mrtv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ce podsvětí, tajemný, temný, nekomunikativní a osamělý vládce říše instinktů. Uvnitř drsný, neúprosný a závistivý, navenek velkorysý a chápav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není zamilovaný, o sexu více mluví, než jej praktiku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sefó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Persefóné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vládkyně podsvětní ří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minčina poslušná dcera, milá, laskavá, vnímavá, ale i poddajná a nerozhodná. Po svém únosu do manželství bývá často depresivní. Má nedůvěru k mužům, překoná-li ji a má hodného muže, probouzí se i sex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Hádés, Dionýsos, Hermés, Apollón, Héfaistos, vyzrálý Á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5:20:38Z</dcterms:created>
  <dc:creator>Administrator</dc:creator>
  <dc:description/>
  <dc:language>en-US</dc:language>
  <cp:lastModifiedBy>Paja</cp:lastModifiedBy>
  <dcterms:modified xsi:type="dcterms:W3CDTF">2011-03-01T08:41:36Z</dcterms:modified>
  <cp:revision>49</cp:revision>
  <dc:subject/>
  <dc:title>Bohové v naší duši</dc:title>
</cp:coreProperties>
</file>